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0119-C6D8-42D1-9B45-E960B186B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6CE6-45A7-4A0B-BE22-67FCF56D7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71A6-B2A2-4C2C-A3FE-72A1BC505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CD82-1F88-4126-8262-8E63D7D7E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5605-DC37-49D8-98F1-34E8B977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90B0-D9F4-40A8-AF84-C6BADFA08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EFBD-9DF0-41A1-B247-E223A10C3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16C1-5CF5-4098-B591-500616372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67816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8D47-73EF-4813-B876-068A041F8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3E2A-6E5D-40BC-9C2B-5FF12E16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899D-5358-4094-928D-4ABB6A3B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E90C-1AE4-49AA-9961-87BABE86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0C8A2-BB59-40E7-B6A9-9C1CBD130E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371600" y="1295280"/>
            <a:ext cx="548496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it" descr=""/>
          <p:cNvPicPr/>
          <p:nvPr/>
        </p:nvPicPr>
        <p:blipFill>
          <a:blip r:embed="rId2"/>
          <a:stretch/>
        </p:blipFill>
        <p:spPr>
          <a:xfrm>
            <a:off x="7391520" y="152280"/>
            <a:ext cx="1587240" cy="787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ontrib.andrew.cmu.edu/~wortham/SE/index.html" TargetMode="External"/><Relationship Id="rId2" Type="http://schemas.openxmlformats.org/officeDocument/2006/relationships/hyperlink" Target="http://www.contrib.andrew.cmu.edu/~wortham/SE/index.html" TargetMode="External"/><Relationship Id="rId3" Type="http://schemas.openxmlformats.org/officeDocument/2006/relationships/hyperlink" Target="http://www.contrib.andrew.cmu.edu/~wortham/SE/index.html" TargetMode="External"/><Relationship Id="rId4" Type="http://schemas.openxmlformats.org/officeDocument/2006/relationships/hyperlink" Target="http://www.contrib.andrew.cmu.edu/~wortham/SE/index.html" TargetMode="External"/><Relationship Id="rId5" Type="http://schemas.openxmlformats.org/officeDocument/2006/relationships/hyperlink" Target="http://www.contrib.andrew.cmu.edu/~wortham/SE/index.html" TargetMode="External"/><Relationship Id="rId6" Type="http://schemas.openxmlformats.org/officeDocument/2006/relationships/hyperlink" Target="http://www.contrib.andrew.cmu.edu/~wortham/SE/index.html" TargetMode="External"/><Relationship Id="rId7" Type="http://schemas.openxmlformats.org/officeDocument/2006/relationships/hyperlink" Target="http://www.contrib.andrew.cmu.edu/~wortham/SE/index.html" TargetMode="External"/><Relationship Id="rId8" Type="http://schemas.openxmlformats.org/officeDocument/2006/relationships/hyperlink" Target="http://www.contrib.andrew.cmu.edu/~wortham/SE/index.html" TargetMode="External"/><Relationship Id="rId9" Type="http://schemas.openxmlformats.org/officeDocument/2006/relationships/hyperlink" Target="http://www.contrib.andrew.cmu.edu/~wortham/SE/index.html" TargetMode="External"/><Relationship Id="rId10" Type="http://schemas.openxmlformats.org/officeDocument/2006/relationships/hyperlink" Target="http://www.contrib.andrew.cmu.edu/~wortham/SE/index.html" TargetMode="External"/><Relationship Id="rId11" Type="http://schemas.openxmlformats.org/officeDocument/2006/relationships/hyperlink" Target="http://www.contrib.andrew.cmu.edu/~wortham/SE/index.html" TargetMode="External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217400" y="354960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66720" y="6550200"/>
            <a:ext cx="8464680" cy="25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23880" y="6489720"/>
            <a:ext cx="8462880" cy="25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31400" cy="6845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480" y="43488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480" y="67320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80" y="91116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480" y="112716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480" y="134604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80" y="156384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480" y="180036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80" y="201780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480" y="223668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480" y="247320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80" y="269064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80" y="290988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80" y="314640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80" y="336384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80" y="360216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80" y="381780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80" y="405612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80" y="427500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80" y="449100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80" y="471024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80" y="494820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80" y="516420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80" y="538164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80" y="561816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" y="583740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0" y="605484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80" y="629136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80" y="651024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80" y="672768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3652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252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6672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0504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1924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5720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7176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0828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02392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3848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47644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1296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4948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4316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37968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1800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3220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4820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26240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0072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1492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5288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16744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0396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61960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85612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7212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8668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2464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73884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97716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21368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42788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4388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88040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09640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1060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54856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76312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99964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969840" y="336600"/>
            <a:ext cx="7237440" cy="6313320"/>
            <a:chOff x="969840" y="336600"/>
            <a:chExt cx="7237440" cy="6313320"/>
          </a:xfrm>
        </p:grpSpPr>
        <p:sp>
          <p:nvSpPr>
            <p:cNvPr id="117" name=""/>
            <p:cNvSpPr/>
            <p:nvPr/>
          </p:nvSpPr>
          <p:spPr>
            <a:xfrm>
              <a:off x="992160" y="336600"/>
              <a:ext cx="7215120" cy="6313320"/>
            </a:xfrm>
            <a:custGeom>
              <a:avLst/>
              <a:gdLst/>
              <a:ahLst/>
              <a:rect l="l" t="t" r="r" b="b"/>
              <a:pathLst>
                <a:path w="4545" h="3977">
                  <a:moveTo>
                    <a:pt x="0" y="445"/>
                  </a:moveTo>
                  <a:lnTo>
                    <a:pt x="445" y="3976"/>
                  </a:lnTo>
                  <a:lnTo>
                    <a:pt x="4544" y="3437"/>
                  </a:lnTo>
                  <a:lnTo>
                    <a:pt x="4091" y="0"/>
                  </a:lnTo>
                  <a:lnTo>
                    <a:pt x="0" y="4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336600"/>
              <a:ext cx="7237440" cy="6313320"/>
            </a:xfrm>
            <a:custGeom>
              <a:avLst/>
              <a:gdLst/>
              <a:ahLst/>
              <a:rect l="l" t="t" r="r" b="b"/>
              <a:pathLst>
                <a:path w="4559" h="3977">
                  <a:moveTo>
                    <a:pt x="0" y="445"/>
                  </a:moveTo>
                  <a:lnTo>
                    <a:pt x="446" y="3976"/>
                  </a:lnTo>
                  <a:lnTo>
                    <a:pt x="4558" y="3437"/>
                  </a:lnTo>
                  <a:lnTo>
                    <a:pt x="4104" y="0"/>
                  </a:lnTo>
                  <a:lnTo>
                    <a:pt x="0" y="44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925560" y="276120"/>
            <a:ext cx="7215120" cy="6332760"/>
            <a:chOff x="925560" y="276120"/>
            <a:chExt cx="7215120" cy="6332760"/>
          </a:xfrm>
        </p:grpSpPr>
        <p:sp>
          <p:nvSpPr>
            <p:cNvPr id="120" name=""/>
            <p:cNvSpPr/>
            <p:nvPr/>
          </p:nvSpPr>
          <p:spPr>
            <a:xfrm>
              <a:off x="925560" y="297000"/>
              <a:ext cx="7215120" cy="6311880"/>
            </a:xfrm>
            <a:custGeom>
              <a:avLst/>
              <a:gdLst/>
              <a:ahLst/>
              <a:rect l="l" t="t" r="r" b="b"/>
              <a:pathLst>
                <a:path w="4545" h="3976">
                  <a:moveTo>
                    <a:pt x="0" y="445"/>
                  </a:moveTo>
                  <a:lnTo>
                    <a:pt x="445" y="3975"/>
                  </a:lnTo>
                  <a:lnTo>
                    <a:pt x="4544" y="3436"/>
                  </a:lnTo>
                  <a:lnTo>
                    <a:pt x="4091" y="0"/>
                  </a:lnTo>
                  <a:lnTo>
                    <a:pt x="0" y="44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25560" y="276120"/>
              <a:ext cx="7215120" cy="6332760"/>
            </a:xfrm>
            <a:custGeom>
              <a:avLst/>
              <a:gdLst/>
              <a:ahLst/>
              <a:rect l="l" t="t" r="r" b="b"/>
              <a:pathLst>
                <a:path w="4545" h="3989">
                  <a:moveTo>
                    <a:pt x="0" y="447"/>
                  </a:moveTo>
                  <a:lnTo>
                    <a:pt x="445" y="3988"/>
                  </a:lnTo>
                  <a:lnTo>
                    <a:pt x="4544" y="3447"/>
                  </a:lnTo>
                  <a:lnTo>
                    <a:pt x="4091" y="0"/>
                  </a:lnTo>
                  <a:lnTo>
                    <a:pt x="0" y="44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4581000" y="485604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02360" y="915840"/>
            <a:ext cx="897120" cy="561960"/>
          </a:xfrm>
          <a:prstGeom prst="rect">
            <a:avLst/>
          </a:prstGeom>
          <a:solidFill>
            <a:srgbClr val="0000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939000" y="878040"/>
            <a:ext cx="912600" cy="56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38280" y="985680"/>
            <a:ext cx="890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-4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30200" y="2498760"/>
            <a:ext cx="626436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racey Worth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Inspection 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TARS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arnegie Mellon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23 November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Object Design 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293A-53EC-4E34-8DFF-DE75FD51A05D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I - Services needed by Mainten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base Cli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t submitDocument(Document da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ocument retrieveDocument(int docID, boolean forRead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t updateDocument(int docID, Document da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809880" y="1523880"/>
            <a:ext cx="4800600" cy="2209680"/>
            <a:chOff x="3809880" y="1523880"/>
            <a:chExt cx="4800600" cy="2209680"/>
          </a:xfrm>
        </p:grpSpPr>
        <p:sp>
          <p:nvSpPr>
            <p:cNvPr id="203" name=""/>
            <p:cNvSpPr/>
            <p:nvPr/>
          </p:nvSpPr>
          <p:spPr>
            <a:xfrm>
              <a:off x="4800600" y="1523880"/>
              <a:ext cx="3809880" cy="2133360"/>
            </a:xfrm>
            <a:prstGeom prst="rect">
              <a:avLst/>
            </a:prstGeom>
            <a:solidFill>
              <a:srgbClr val="2cb3b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623000" y="152388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D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5257440" y="3124080"/>
              <a:ext cx="53316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5638680" y="3428640"/>
              <a:ext cx="1371600" cy="7632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562360" y="251424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400800" y="2514240"/>
              <a:ext cx="685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162560" y="20570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172200" y="1752480"/>
              <a:ext cx="9144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172200" y="1752480"/>
              <a:ext cx="76176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029200" y="175248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772400" y="2590560"/>
              <a:ext cx="0" cy="76212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105160" y="2285640"/>
              <a:ext cx="1371600" cy="304920"/>
            </a:xfrm>
            <a:prstGeom prst="rect">
              <a:avLst/>
            </a:prstGeom>
            <a:solidFill>
              <a:srgbClr val="8f83e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rient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876560" y="1599840"/>
              <a:ext cx="1676520" cy="304920"/>
            </a:xfrm>
            <a:prstGeom prst="rect">
              <a:avLst/>
            </a:prstGeom>
            <a:solidFill>
              <a:srgbClr val="a3ef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ser Inte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858000" y="1981080"/>
              <a:ext cx="1676160" cy="304560"/>
            </a:xfrm>
            <a:prstGeom prst="rect">
              <a:avLst/>
            </a:prstGeom>
            <a:solidFill>
              <a:srgbClr val="86b1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peec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81680" y="3200040"/>
              <a:ext cx="1676520" cy="304920"/>
            </a:xfrm>
            <a:prstGeom prst="rect">
              <a:avLst/>
            </a:prstGeom>
            <a:solidFill>
              <a:srgbClr val="2cd480"/>
            </a:solidFill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ork Ord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876560" y="2895480"/>
              <a:ext cx="1676520" cy="304560"/>
            </a:xfrm>
            <a:prstGeom prst="rect">
              <a:avLst/>
            </a:prstGeom>
            <a:solidFill>
              <a:srgbClr val="c276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odel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705360" y="2514240"/>
              <a:ext cx="1524240" cy="304920"/>
            </a:xfrm>
            <a:prstGeom prst="rect">
              <a:avLst/>
            </a:prstGeom>
            <a:solidFill>
              <a:srgbClr val="64dcd9"/>
            </a:solidFill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09880" y="3428640"/>
              <a:ext cx="1905120" cy="304920"/>
            </a:xfrm>
            <a:prstGeom prst="rect">
              <a:avLst/>
            </a:prstGeom>
            <a:solidFill>
              <a:srgbClr val="b6da02"/>
            </a:solidFill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tabase Cl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B9F5-1AA6-40F1-A537-848B5C00D93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I - Services needed by Maintenance (cont.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Interfa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t addUI(UI newui, int frame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osition getPositio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3809880" y="1523880"/>
            <a:ext cx="4800600" cy="2209680"/>
            <a:chOff x="3809880" y="1523880"/>
            <a:chExt cx="4800600" cy="2209680"/>
          </a:xfrm>
        </p:grpSpPr>
        <p:sp>
          <p:nvSpPr>
            <p:cNvPr id="224" name=""/>
            <p:cNvSpPr/>
            <p:nvPr/>
          </p:nvSpPr>
          <p:spPr>
            <a:xfrm>
              <a:off x="4800600" y="1523880"/>
              <a:ext cx="3809880" cy="2133360"/>
            </a:xfrm>
            <a:prstGeom prst="rect">
              <a:avLst/>
            </a:prstGeom>
            <a:solidFill>
              <a:srgbClr val="2cb3b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623000" y="152388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D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5257440" y="3124080"/>
              <a:ext cx="53316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5638680" y="3428640"/>
              <a:ext cx="13716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562360" y="251424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400800" y="2514240"/>
              <a:ext cx="685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162560" y="20570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172200" y="1752480"/>
              <a:ext cx="9144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172200" y="1752480"/>
              <a:ext cx="761760" cy="8380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029200" y="175248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772400" y="259056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05160" y="2285640"/>
              <a:ext cx="1371600" cy="304920"/>
            </a:xfrm>
            <a:prstGeom prst="rect">
              <a:avLst/>
            </a:prstGeom>
            <a:solidFill>
              <a:srgbClr val="8f83e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rient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76560" y="1599840"/>
              <a:ext cx="1676520" cy="304920"/>
            </a:xfrm>
            <a:prstGeom prst="rect">
              <a:avLst/>
            </a:prstGeom>
            <a:solidFill>
              <a:srgbClr val="a3eff5"/>
            </a:solidFill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ser Inte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858000" y="1981080"/>
              <a:ext cx="1676160" cy="304560"/>
            </a:xfrm>
            <a:prstGeom prst="rect">
              <a:avLst/>
            </a:prstGeom>
            <a:solidFill>
              <a:srgbClr val="86b1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peec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781680" y="3200040"/>
              <a:ext cx="1676520" cy="304920"/>
            </a:xfrm>
            <a:prstGeom prst="rect">
              <a:avLst/>
            </a:prstGeom>
            <a:solidFill>
              <a:srgbClr val="2cd4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ork Ord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876560" y="2895480"/>
              <a:ext cx="1676520" cy="304560"/>
            </a:xfrm>
            <a:prstGeom prst="rect">
              <a:avLst/>
            </a:prstGeom>
            <a:solidFill>
              <a:srgbClr val="c276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odel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705360" y="2514240"/>
              <a:ext cx="1524240" cy="304920"/>
            </a:xfrm>
            <a:prstGeom prst="rect">
              <a:avLst/>
            </a:prstGeom>
            <a:solidFill>
              <a:srgbClr val="64dcd9"/>
            </a:solidFill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809880" y="3428640"/>
              <a:ext cx="1905120" cy="304920"/>
            </a:xfrm>
            <a:prstGeom prst="rect">
              <a:avLst/>
            </a:prstGeom>
            <a:solidFill>
              <a:srgbClr val="b6da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tabase Cl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31CA-41E3-4071-B20D-C87793A6715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I - Services needed by Inspection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oid addSticky(Position stickylocation, ID sticky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oid removeAllStickies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oid highlightSticky(ID sticky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Manual A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3809880" y="1523880"/>
            <a:ext cx="4800600" cy="2209680"/>
            <a:chOff x="3809880" y="1523880"/>
            <a:chExt cx="4800600" cy="2209680"/>
          </a:xfrm>
        </p:grpSpPr>
        <p:sp>
          <p:nvSpPr>
            <p:cNvPr id="245" name=""/>
            <p:cNvSpPr/>
            <p:nvPr/>
          </p:nvSpPr>
          <p:spPr>
            <a:xfrm>
              <a:off x="4800600" y="1523880"/>
              <a:ext cx="3809880" cy="2133360"/>
            </a:xfrm>
            <a:prstGeom prst="rect">
              <a:avLst/>
            </a:prstGeom>
            <a:solidFill>
              <a:srgbClr val="2cb3b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23000" y="152388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D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5257440" y="3124080"/>
              <a:ext cx="53316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5638680" y="3428640"/>
              <a:ext cx="13716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562360" y="251424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400800" y="2514240"/>
              <a:ext cx="685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162560" y="20570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172200" y="1752480"/>
              <a:ext cx="9144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172200" y="1752480"/>
              <a:ext cx="76176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029200" y="175248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772400" y="259056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105160" y="2285640"/>
              <a:ext cx="1371600" cy="304920"/>
            </a:xfrm>
            <a:prstGeom prst="rect">
              <a:avLst/>
            </a:prstGeom>
            <a:solidFill>
              <a:srgbClr val="8f83e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rient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76560" y="1599840"/>
              <a:ext cx="1676520" cy="304920"/>
            </a:xfrm>
            <a:prstGeom prst="rect">
              <a:avLst/>
            </a:prstGeom>
            <a:solidFill>
              <a:srgbClr val="a3ef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ser Inte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58000" y="1981080"/>
              <a:ext cx="1676160" cy="304560"/>
            </a:xfrm>
            <a:prstGeom prst="rect">
              <a:avLst/>
            </a:prstGeom>
            <a:solidFill>
              <a:srgbClr val="86b1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peec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81680" y="3200040"/>
              <a:ext cx="1676520" cy="304920"/>
            </a:xfrm>
            <a:prstGeom prst="rect">
              <a:avLst/>
            </a:prstGeom>
            <a:solidFill>
              <a:srgbClr val="2cd4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ork Ord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876560" y="2895480"/>
              <a:ext cx="1676520" cy="304560"/>
            </a:xfrm>
            <a:prstGeom prst="rect">
              <a:avLst/>
            </a:prstGeom>
            <a:solidFill>
              <a:srgbClr val="c276e0"/>
            </a:solidFill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odel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705360" y="2514240"/>
              <a:ext cx="1524240" cy="304920"/>
            </a:xfrm>
            <a:prstGeom prst="rect">
              <a:avLst/>
            </a:prstGeom>
            <a:solidFill>
              <a:srgbClr val="64dcd9"/>
            </a:solidFill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809880" y="3428640"/>
              <a:ext cx="1905120" cy="304920"/>
            </a:xfrm>
            <a:prstGeom prst="rect">
              <a:avLst/>
            </a:prstGeom>
            <a:solidFill>
              <a:srgbClr val="b6da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tabase Cl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6552720" y="2819160"/>
              <a:ext cx="152280" cy="76320"/>
            </a:xfrm>
            <a:prstGeom prst="line">
              <a:avLst/>
            </a:prstGeom>
            <a:ln w="3168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D78F-B4A3-4B0E-8662-676BE6A2F21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us of Maintenance Sub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ments Analysis is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 design is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 design is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ing on imple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guring out how to use the WebManual IETM vie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8C25-153E-442B-A2C8-2FC4B9F440A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752480" y="1752480"/>
            <a:ext cx="56390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990720" y="1600200"/>
            <a:ext cx="723888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86000" y="3200400"/>
            <a:ext cx="1066680" cy="838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523880" y="1981080"/>
            <a:ext cx="63248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8280" y="502920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/22/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0" y="502920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/09/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990720" y="4952880"/>
            <a:ext cx="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28600" y="1143000"/>
            <a:ext cx="85345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990720" y="4952880"/>
            <a:ext cx="0" cy="152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990720" y="2133720"/>
            <a:ext cx="5333760" cy="3045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92400" y="502920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/05/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506400" y="502920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/01/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38480" y="3200400"/>
            <a:ext cx="2286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817280" y="1752480"/>
            <a:ext cx="392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ation (11/22/99-12/05/9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00520" y="2819520"/>
            <a:ext cx="359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t Testing (12/01/99-12/05/9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486400" y="4191120"/>
            <a:ext cx="274320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255560" y="3809880"/>
            <a:ext cx="403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Tests (12/04/99-12/09/9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BD01-38D1-4B04-B79F-2FE90D1B4FD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uch memory do we need for the Maintenance subsyste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API for the WebManual IETM view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BA5A-9D3A-4D9E-A3A2-0A03A5E7B57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enance Scen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enance Object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S Subsystem Decom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enance A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s Maintenance prov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s Maintenance expects from other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3ED6-E65E-4067-9BF7-24BDFE46E95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intenance Subsystem Scenari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 Insp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ort Discrepa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E264-0B5E-4326-8591-26175CD6207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cenario - Report Discrepanc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pector Joe finds rust spots on the right wing of the airplane during a 14-day periodic rust inspection and reports it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ushButto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e is presented with a screen on which he can enter the sticky information. He presses a ‘Done’ button when he is finish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nterStickyInfo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B82F-FBFE-41FE-BAEB-6CB8553C563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port Discrepancy (cont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the sticky information has been entered, a set of crosshairs will be displayed for Joe to identify the location of the stick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utSticky(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getStickyPosition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new sticky will be instantiated and submitted to the databas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ubmitDocument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8631-CDFC-4040-89DE-4BFF42CDD7C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port Discrepancy Sequence Diagra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685800" y="1523880"/>
          <a:ext cx="7761240" cy="456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761240" cy="456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2514600" y="1447920"/>
            <a:ext cx="6392880" cy="48006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0" y="1447920"/>
            <a:ext cx="248328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spector Joe finds ru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ots on the right w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the airplane during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4-day periodic ru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spection and reports i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-1080" y="3276720"/>
            <a:ext cx="2206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 enters the stick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orm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-2160" y="4114800"/>
            <a:ext cx="21697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 identifies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the stick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-2520" y="4952880"/>
            <a:ext cx="26467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new sticky will b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stantiated and submitt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the databa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B16C-A092-446F-93AD-3B88A263ACE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intenance Object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8153280" cy="518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9C90-034E-436B-844B-D20D8F990A8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762120" y="1752480"/>
            <a:ext cx="7695720" cy="4190760"/>
            <a:chOff x="762120" y="1752480"/>
            <a:chExt cx="7695720" cy="4190760"/>
          </a:xfrm>
        </p:grpSpPr>
        <p:sp>
          <p:nvSpPr>
            <p:cNvPr id="147" name=""/>
            <p:cNvSpPr/>
            <p:nvPr/>
          </p:nvSpPr>
          <p:spPr>
            <a:xfrm>
              <a:off x="762120" y="1752480"/>
              <a:ext cx="7695720" cy="4190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949680" y="1931040"/>
              <a:ext cx="2440080" cy="2496240"/>
            </a:xfrm>
            <a:prstGeom prst="rect">
              <a:avLst/>
            </a:prstGeom>
            <a:solidFill>
              <a:srgbClr val="ffd0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77680" y="1931040"/>
              <a:ext cx="4692600" cy="2496240"/>
            </a:xfrm>
            <a:prstGeom prst="rect">
              <a:avLst/>
            </a:prstGeom>
            <a:solidFill>
              <a:srgbClr val="2cb3b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49680" y="4784040"/>
              <a:ext cx="7320600" cy="98064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05320" y="4784040"/>
              <a:ext cx="167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tabase 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50040" y="1931040"/>
              <a:ext cx="1312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utho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orkst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053480" y="193104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D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26360" y="3179160"/>
              <a:ext cx="375480" cy="10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4140720" y="3803400"/>
              <a:ext cx="656640" cy="62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4609800" y="4159800"/>
              <a:ext cx="1689120" cy="8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515840" y="3089880"/>
              <a:ext cx="0" cy="44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548680" y="3089880"/>
              <a:ext cx="844560" cy="26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86840" y="2554920"/>
              <a:ext cx="0" cy="80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267160" y="2198520"/>
              <a:ext cx="1126080" cy="26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267160" y="2198520"/>
              <a:ext cx="938160" cy="98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859200" y="2198520"/>
              <a:ext cx="0" cy="142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238160" y="3179160"/>
              <a:ext cx="0" cy="89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952800" y="2822400"/>
              <a:ext cx="1689120" cy="356760"/>
            </a:xfrm>
            <a:prstGeom prst="rect">
              <a:avLst/>
            </a:prstGeom>
            <a:solidFill>
              <a:srgbClr val="8f83e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rient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671280" y="2019960"/>
              <a:ext cx="2064960" cy="356760"/>
            </a:xfrm>
            <a:prstGeom prst="rect">
              <a:avLst/>
            </a:prstGeom>
            <a:solidFill>
              <a:srgbClr val="a3ef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ser Inte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111720" y="2466000"/>
              <a:ext cx="2064240" cy="356040"/>
            </a:xfrm>
            <a:prstGeom prst="rect">
              <a:avLst/>
            </a:prstGeom>
            <a:solidFill>
              <a:srgbClr val="86b1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peec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17760" y="3892320"/>
              <a:ext cx="2064960" cy="356760"/>
            </a:xfrm>
            <a:prstGeom prst="rect">
              <a:avLst/>
            </a:prstGeom>
            <a:solidFill>
              <a:srgbClr val="2cd4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ork Ord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671280" y="3535920"/>
              <a:ext cx="2064960" cy="356040"/>
            </a:xfrm>
            <a:prstGeom prst="rect">
              <a:avLst/>
            </a:prstGeom>
            <a:solidFill>
              <a:srgbClr val="c276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odel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923800" y="3089880"/>
              <a:ext cx="1877400" cy="356760"/>
            </a:xfrm>
            <a:prstGeom prst="rect">
              <a:avLst/>
            </a:prstGeom>
            <a:solidFill>
              <a:srgbClr val="64dc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37240" y="3000960"/>
              <a:ext cx="2064960" cy="356040"/>
            </a:xfrm>
            <a:prstGeom prst="rect">
              <a:avLst/>
            </a:prstGeom>
            <a:solidFill>
              <a:srgbClr val="fff97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utho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483720" y="4427280"/>
              <a:ext cx="0" cy="44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826360" y="4873320"/>
              <a:ext cx="469440" cy="62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859200" y="4873320"/>
              <a:ext cx="281520" cy="53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357280" y="4694760"/>
              <a:ext cx="2346480" cy="356760"/>
            </a:xfrm>
            <a:prstGeom prst="rect">
              <a:avLst/>
            </a:prstGeom>
            <a:solidFill>
              <a:srgbClr val="f9907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tabase 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71280" y="5229720"/>
              <a:ext cx="2064960" cy="356760"/>
            </a:xfrm>
            <a:prstGeom prst="rect">
              <a:avLst/>
            </a:prstGeom>
            <a:solidFill>
              <a:srgbClr val="fe7c4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ot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325160" y="5229720"/>
              <a:ext cx="2064240" cy="356760"/>
            </a:xfrm>
            <a:prstGeom prst="rect">
              <a:avLst/>
            </a:prstGeom>
            <a:solidFill>
              <a:srgbClr val="fd879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uthent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357280" y="4159800"/>
              <a:ext cx="2346480" cy="356760"/>
            </a:xfrm>
            <a:prstGeom prst="rect">
              <a:avLst/>
            </a:prstGeom>
            <a:solidFill>
              <a:srgbClr val="b6da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tabase Cl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ARS Subsystem Decompos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2FC5-C819-49A8-B7E5-7C2468A77DF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I - Services provided by Mainten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icky pickSticky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oid attachSticky(Sticky 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 to get and set the Workorder and Sticky attribu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oid setStatus(int status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doc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ontrib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andrew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cmu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.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edu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/~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wortham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/SE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4114800" y="1600200"/>
            <a:ext cx="4800600" cy="2209680"/>
            <a:chOff x="4114800" y="1600200"/>
            <a:chExt cx="4800600" cy="2209680"/>
          </a:xfrm>
        </p:grpSpPr>
        <p:sp>
          <p:nvSpPr>
            <p:cNvPr id="182" name=""/>
            <p:cNvSpPr/>
            <p:nvPr/>
          </p:nvSpPr>
          <p:spPr>
            <a:xfrm>
              <a:off x="5105520" y="1600200"/>
              <a:ext cx="3809880" cy="2133360"/>
            </a:xfrm>
            <a:prstGeom prst="rect">
              <a:avLst/>
            </a:prstGeom>
            <a:solidFill>
              <a:srgbClr val="2cb3b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927920" y="160020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ED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5562360" y="3200400"/>
              <a:ext cx="53316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5943600" y="3504960"/>
              <a:ext cx="13716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867280" y="259056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705720" y="2590560"/>
              <a:ext cx="685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467480" y="2133360"/>
              <a:ext cx="0" cy="6858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477120" y="1828800"/>
              <a:ext cx="9144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77120" y="1828800"/>
              <a:ext cx="76176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334120" y="182880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077320" y="266688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10080" y="2361960"/>
              <a:ext cx="1371600" cy="304920"/>
            </a:xfrm>
            <a:prstGeom prst="rect">
              <a:avLst/>
            </a:prstGeom>
            <a:solidFill>
              <a:srgbClr val="8f83e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rient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81480" y="1676160"/>
              <a:ext cx="1676520" cy="304920"/>
            </a:xfrm>
            <a:prstGeom prst="rect">
              <a:avLst/>
            </a:prstGeom>
            <a:solidFill>
              <a:srgbClr val="a3ef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ser Inte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162920" y="2057400"/>
              <a:ext cx="1676160" cy="304560"/>
            </a:xfrm>
            <a:prstGeom prst="rect">
              <a:avLst/>
            </a:prstGeom>
            <a:solidFill>
              <a:srgbClr val="86b1dc"/>
            </a:solidFill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peec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86600" y="3276360"/>
              <a:ext cx="1676520" cy="304920"/>
            </a:xfrm>
            <a:prstGeom prst="rect">
              <a:avLst/>
            </a:prstGeom>
            <a:solidFill>
              <a:srgbClr val="2cd4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ork Ord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181480" y="2971800"/>
              <a:ext cx="1676520" cy="304560"/>
            </a:xfrm>
            <a:prstGeom prst="rect">
              <a:avLst/>
            </a:prstGeom>
            <a:solidFill>
              <a:srgbClr val="c276e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odel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010280" y="2590560"/>
              <a:ext cx="1524240" cy="304920"/>
            </a:xfrm>
            <a:prstGeom prst="rect">
              <a:avLst/>
            </a:prstGeom>
            <a:solidFill>
              <a:srgbClr val="64dcd9"/>
            </a:solidFill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114800" y="3504960"/>
              <a:ext cx="1905120" cy="304920"/>
            </a:xfrm>
            <a:prstGeom prst="rect">
              <a:avLst/>
            </a:prstGeom>
            <a:solidFill>
              <a:srgbClr val="b6da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tabase Cl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9D50-9939-4F57-B976-AD1C71BF6D4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9:50:21Z</dcterms:created>
  <dc:creator>Eric Stein</dc:creator>
  <dc:description/>
  <dc:language>en-US</dc:language>
  <cp:lastModifiedBy>Tracey Wortham</cp:lastModifiedBy>
  <cp:lastPrinted>1999-11-04T21:32:38Z</cp:lastPrinted>
  <dcterms:modified xsi:type="dcterms:W3CDTF">1999-11-23T13:44:55Z</dcterms:modified>
  <cp:revision>111</cp:revision>
  <dc:subject/>
  <dc:title>Title</dc:title>
</cp:coreProperties>
</file>