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165-7D68-47D5-BE12-BDE1A3D6B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66D6-913F-4E3A-AD64-A87D5D97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321-4D8D-4A9F-8DB5-4FEE75BCA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084-B053-4B2A-A91C-4A59B38D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360-0078-44E6-9EE6-669D2C0E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46CF-C9CF-4E1C-BFB9-98D74DA7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50F-78BA-4F9C-B869-A802E849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E44-DFAF-48C5-A92F-BB0FADE2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C0A-FBF0-4FA6-9EE0-24373350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7AB5-5AE9-4FE1-BE4B-60D98FB4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4BA2-8101-46A7-9C54-40BFB01D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C4CD-5759-4D05-A88C-7BB74CCB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9A57-8C6C-414A-8A9D-0374B3346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71600" y="1143000"/>
            <a:ext cx="5484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587240" cy="78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ntrib.andrew.cmu.edu/~rig/javadoc/index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217400" y="35496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6720" y="6550200"/>
            <a:ext cx="8464680" cy="2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3880" y="6489720"/>
            <a:ext cx="84628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80" y="4348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80" y="673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0" y="91116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1127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13460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1563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1800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80" y="20178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80" y="2236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80" y="2473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80" y="26906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80" y="290988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0" y="3146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80" y="33638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80" y="3602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80" y="38178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0" y="405612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80" y="4275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80" y="4491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80" y="47102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80" y="4948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80" y="5164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80" y="53816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80" y="5618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" y="5837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0" y="6054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0" y="6291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80" y="65102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80" y="6727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2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6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50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92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572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717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082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239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384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764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129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494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431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796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180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32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48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24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149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674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039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196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56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72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86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24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388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771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13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27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438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80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96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106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485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631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99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69840" y="336600"/>
            <a:ext cx="7237440" cy="6313320"/>
            <a:chOff x="969840" y="336600"/>
            <a:chExt cx="7237440" cy="6313320"/>
          </a:xfrm>
        </p:grpSpPr>
        <p:sp>
          <p:nvSpPr>
            <p:cNvPr id="117" name=""/>
            <p:cNvSpPr/>
            <p:nvPr/>
          </p:nvSpPr>
          <p:spPr>
            <a:xfrm>
              <a:off x="992160" y="336600"/>
              <a:ext cx="7215120" cy="6313320"/>
            </a:xfrm>
            <a:custGeom>
              <a:avLst/>
              <a:gdLst/>
              <a:ahLst/>
              <a:rect l="l" t="t" r="r" b="b"/>
              <a:pathLst>
                <a:path w="4545" h="3977">
                  <a:moveTo>
                    <a:pt x="0" y="445"/>
                  </a:moveTo>
                  <a:lnTo>
                    <a:pt x="445" y="3976"/>
                  </a:lnTo>
                  <a:lnTo>
                    <a:pt x="4544" y="3437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336600"/>
              <a:ext cx="7237440" cy="6313320"/>
            </a:xfrm>
            <a:custGeom>
              <a:avLst/>
              <a:gdLst/>
              <a:ahLst/>
              <a:rect l="l" t="t" r="r" b="b"/>
              <a:pathLst>
                <a:path w="4559" h="3977">
                  <a:moveTo>
                    <a:pt x="0" y="445"/>
                  </a:moveTo>
                  <a:lnTo>
                    <a:pt x="446" y="3976"/>
                  </a:lnTo>
                  <a:lnTo>
                    <a:pt x="4558" y="3437"/>
                  </a:lnTo>
                  <a:lnTo>
                    <a:pt x="4104" y="0"/>
                  </a:lnTo>
                  <a:lnTo>
                    <a:pt x="0" y="4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925560" y="276120"/>
            <a:ext cx="7215120" cy="6332760"/>
            <a:chOff x="925560" y="276120"/>
            <a:chExt cx="7215120" cy="6332760"/>
          </a:xfrm>
        </p:grpSpPr>
        <p:sp>
          <p:nvSpPr>
            <p:cNvPr id="120" name=""/>
            <p:cNvSpPr/>
            <p:nvPr/>
          </p:nvSpPr>
          <p:spPr>
            <a:xfrm>
              <a:off x="925560" y="297000"/>
              <a:ext cx="7215120" cy="6311880"/>
            </a:xfrm>
            <a:custGeom>
              <a:avLst/>
              <a:gdLst/>
              <a:ahLst/>
              <a:rect l="l" t="t" r="r" b="b"/>
              <a:pathLst>
                <a:path w="4545" h="3976">
                  <a:moveTo>
                    <a:pt x="0" y="445"/>
                  </a:moveTo>
                  <a:lnTo>
                    <a:pt x="445" y="3975"/>
                  </a:lnTo>
                  <a:lnTo>
                    <a:pt x="4544" y="3436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25560" y="276120"/>
              <a:ext cx="7215120" cy="6332760"/>
            </a:xfrm>
            <a:custGeom>
              <a:avLst/>
              <a:gdLst/>
              <a:ahLst/>
              <a:rect l="l" t="t" r="r" b="b"/>
              <a:pathLst>
                <a:path w="4545" h="3989">
                  <a:moveTo>
                    <a:pt x="0" y="447"/>
                  </a:moveTo>
                  <a:lnTo>
                    <a:pt x="445" y="3988"/>
                  </a:lnTo>
                  <a:lnTo>
                    <a:pt x="4544" y="3447"/>
                  </a:lnTo>
                  <a:lnTo>
                    <a:pt x="4091" y="0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81000" y="48560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02360" y="915840"/>
            <a:ext cx="897120" cy="561960"/>
          </a:xfrm>
          <a:prstGeom prst="rect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9000" y="878040"/>
            <a:ext cx="912600" cy="56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8280" y="985680"/>
            <a:ext cx="89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-4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30200" y="2498760"/>
            <a:ext cx="6264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achel I. Goldst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pair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TAR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23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bject Design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3C9D-F91D-4E6D-95A8-DE5E6123277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ch.grammar Pack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rammar" descr=""/>
          <p:cNvPicPr/>
          <p:nvPr/>
        </p:nvPicPr>
        <p:blipFill>
          <a:blip r:embed="rId1"/>
          <a:stretch/>
        </p:blipFill>
        <p:spPr>
          <a:xfrm>
            <a:off x="380880" y="1366920"/>
            <a:ext cx="8371080" cy="480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1FF0-ABD0-4A35-B059-D20368EBE8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d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doc:</a:t>
            </a:r>
            <a:br>
              <a:rPr sz="3200"/>
            </a:br>
            <a:r>
              <a:rPr b="0" lang="en-US" sz="3200" spc="-1" strike="noStrike" u="sng">
                <a:solidFill>
                  <a:srgbClr val="009900"/>
                </a:solidFill>
                <a:uFillTx/>
                <a:latin typeface="Times New Roman"/>
                <a:hlinkClick r:id="rId1"/>
              </a:rPr>
              <a:t>http://www.contrib.andrew.cmu.edu/~rig/javadoc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239-64F0-493D-967C-2446C35E61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rdware/Software All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eech subsystem will use IBM ViaVoice with JSAPI extensions as its speech eng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aVoice needs a maximum 260 MB in disk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aVoice needs a maximum 48 MB RAM (including 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82B5-8872-4433-8630-CD3E3F6633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s provided by Spe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peech.Initialization.initializ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by the UI subsystem to start the speech sub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peech subsystem will be running as long as the STARS executable is running on the PE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2C7A-088C-4615-99A8-CD9598535E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s needed by Spee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Maintenance sub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 a workorder to the 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submitWorkorde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 the current stic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nextSticky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the current sticky back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eviousSticky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the status of a work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setStatus(int stat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2514600"/>
            <a:ext cx="3268800" cy="1830240"/>
          </a:xfrm>
          <a:prstGeom prst="rect">
            <a:avLst/>
          </a:prstGeom>
          <a:solidFill>
            <a:srgbClr val="2cb3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60040" y="25146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92800" y="3363840"/>
            <a:ext cx="0" cy="3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2080" y="3363840"/>
            <a:ext cx="58716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07240" y="3036960"/>
            <a:ext cx="0" cy="58896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15160" y="2711520"/>
            <a:ext cx="784080" cy="19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15160" y="2711520"/>
            <a:ext cx="65412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35600" y="2711520"/>
            <a:ext cx="0" cy="10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296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00760" y="3168720"/>
            <a:ext cx="1176480" cy="261720"/>
          </a:xfrm>
          <a:prstGeom prst="rect">
            <a:avLst/>
          </a:prstGeom>
          <a:solidFill>
            <a:srgbClr val="8f83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03840" y="2579760"/>
            <a:ext cx="1438200" cy="261720"/>
          </a:xfrm>
          <a:prstGeom prst="rect">
            <a:avLst/>
          </a:prstGeom>
          <a:solidFill>
            <a:srgbClr val="a3ef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2895480"/>
            <a:ext cx="1438200" cy="262080"/>
          </a:xfrm>
          <a:prstGeom prst="rect">
            <a:avLst/>
          </a:prstGeom>
          <a:solidFill>
            <a:srgbClr val="86b1dc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38960" y="3952800"/>
            <a:ext cx="1438200" cy="262080"/>
          </a:xfrm>
          <a:prstGeom prst="rect">
            <a:avLst/>
          </a:prstGeom>
          <a:solidFill>
            <a:srgbClr val="2cd4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03840" y="3691080"/>
            <a:ext cx="1438200" cy="261720"/>
          </a:xfrm>
          <a:prstGeom prst="rect">
            <a:avLst/>
          </a:prstGeom>
          <a:solidFill>
            <a:srgbClr val="c276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3429000"/>
            <a:ext cx="1306440" cy="262080"/>
          </a:xfrm>
          <a:prstGeom prst="rect">
            <a:avLst/>
          </a:prstGeom>
          <a:solidFill>
            <a:srgbClr val="64dcd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BBB8-C0FF-4094-9D36-BAB1C3E1FE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rvices needed by Speech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8954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UI sub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displayed screen from model to IETM and vice ver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displayUserInterfac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nt userInterfaceID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int displayStatus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int panel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1447920"/>
            <a:ext cx="3268800" cy="1830240"/>
          </a:xfrm>
          <a:prstGeom prst="rect">
            <a:avLst/>
          </a:prstGeom>
          <a:solidFill>
            <a:srgbClr val="2cb3b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17040" y="14479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49800" y="229716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69080" y="2297160"/>
            <a:ext cx="58716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64240" y="196992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72160" y="1644480"/>
            <a:ext cx="784080" cy="1954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72160" y="1644480"/>
            <a:ext cx="6541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92600" y="1644480"/>
            <a:ext cx="0" cy="10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23888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57760" y="2101680"/>
            <a:ext cx="1176480" cy="262080"/>
          </a:xfrm>
          <a:prstGeom prst="rect">
            <a:avLst/>
          </a:prstGeom>
          <a:solidFill>
            <a:srgbClr val="8f83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60840" y="1512720"/>
            <a:ext cx="1535040" cy="316080"/>
          </a:xfrm>
          <a:prstGeom prst="rect">
            <a:avLst/>
          </a:prstGeom>
          <a:solidFill>
            <a:srgbClr val="a3eff5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1828800"/>
            <a:ext cx="1438200" cy="262080"/>
          </a:xfrm>
          <a:prstGeom prst="rect">
            <a:avLst/>
          </a:prstGeom>
          <a:solidFill>
            <a:srgbClr val="86b1dc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95960" y="2886120"/>
            <a:ext cx="1438200" cy="261720"/>
          </a:xfrm>
          <a:prstGeom prst="rect">
            <a:avLst/>
          </a:prstGeom>
          <a:solidFill>
            <a:srgbClr val="2cd4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 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60840" y="2624040"/>
            <a:ext cx="1438200" cy="262080"/>
          </a:xfrm>
          <a:prstGeom prst="rect">
            <a:avLst/>
          </a:prstGeom>
          <a:solidFill>
            <a:srgbClr val="c276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72200" y="2362320"/>
            <a:ext cx="1306440" cy="261720"/>
          </a:xfrm>
          <a:prstGeom prst="rect">
            <a:avLst/>
          </a:prstGeom>
          <a:solidFill>
            <a:srgbClr val="64dc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C15-C5CF-474C-8ADB-3D8BA9E67E5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tus of the Speech Sub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 Analysis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Design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Design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on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ing into the API for WebManual IETM 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izing all grammars: global, workorder, model, IE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70E-ABDD-47F8-9C51-E4782D13DF5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/22 to 12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t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1 to 12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4 to 1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y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Acceptance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06D9-1FE6-4993-89E1-77C9285C4A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Manual AP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ur creation of a dynamic IETM grammar depends on th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AD73-0EB6-4D5D-9ADE-A1ECB8A7361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ch Subsystem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s in spoken text and performs appropriate actions / API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of valid words and phrases that the recognition engine is expecting at a particular point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AEA-FCBD-4A8A-B0DC-C9422B95F6A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: API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c Bob has a workorder with stickies.  A view of the model is displayed on his PED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says, “show IETM” in order to change the display from the model to the IET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interpreter.GlobalInterpreter.interpr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i.UserInterfaceManager.displayUser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 userInterfaceID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displayStatu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anel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781680" y="1523880"/>
            <a:ext cx="2362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D33-9E46-4A75-AC3B-EFE7CD49D30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says, “activate IETM” in order to switch grammars to the IETM gramm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interpreter.GlobalInterpreter.interpr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grammar.CentralGrammarHandl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ActiveGrammarHandler(IETMGrammarHandl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says, “next step” and the speech system speaks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ep to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CentralInterpreter.ActiveInterpreter. interpr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IETMInterpreter.interpr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Synthesis.speakSte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8911-7883-4210-998C-9250852034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performs the step spoken to him and continues saying “next step” until he is done with the repa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says, “activate workorder” in order to switch the active grammar to the workorder gramm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interpreter.CentralInterpreter. GlobalInterpreter.interpr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grammar.CentralGrammarHandl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ActiveGrammarHandler(WorkorderGrammarHandl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BFD4-94DA-47FB-A195-2AFF433778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says  “submit” in order to automatically set the status to awaiting approval and submit the completed workorder to the data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CentralInterpreter.ActiveInterpreter.interpr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peech.WorkorderInterpreter.interpr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intenance.submitWorkorde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79B-1583-4169-92B1-D77E8617B1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6248520"/>
            <a:ext cx="31104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seq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925040" cy="53341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: Sequence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828800"/>
            <a:ext cx="119700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: Bob says “show IETM” in order to change the display from the model to the IE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590920"/>
            <a:ext cx="119700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: Bob says, “activate IETM” in order to switch grammars to the IETM gramm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494160"/>
            <a:ext cx="119700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: Bob says, “next step” and the speech system speaks a step to hi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392720"/>
            <a:ext cx="119700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: Bob says, “activate workorder” in order to switch the active grammar to the workorder gramma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276880"/>
            <a:ext cx="119700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: Bob says “submit” in order to submit the completed workorder to the databa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6172200"/>
            <a:ext cx="609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64C9-87A9-47B1-A599-7830AFA77D6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ch Pack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speech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92504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2761-4251-451C-9341-FDE29CA9C6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ech.interpreter Pack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interpreter" descr=""/>
          <p:cNvPicPr/>
          <p:nvPr/>
        </p:nvPicPr>
        <p:blipFill>
          <a:blip r:embed="rId1"/>
          <a:stretch/>
        </p:blipFill>
        <p:spPr>
          <a:xfrm>
            <a:off x="609480" y="1300320"/>
            <a:ext cx="7925040" cy="48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8F2-8E2B-4CB4-A984-CD8802DFBF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9:50:21Z</dcterms:created>
  <dc:creator>Eric Stein</dc:creator>
  <dc:description/>
  <dc:language>en-US</dc:language>
  <cp:lastModifiedBy>rig</cp:lastModifiedBy>
  <cp:lastPrinted>1999-11-04T21:32:38Z</cp:lastPrinted>
  <dcterms:modified xsi:type="dcterms:W3CDTF">1999-11-23T07:57:39Z</dcterms:modified>
  <cp:revision>92</cp:revision>
  <dc:subject/>
  <dc:title>Title</dc:title>
</cp:coreProperties>
</file>