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9F32-0B6B-4EAC-8AF8-A0839E3C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363-5B20-4B5C-AAF8-C9774FEF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A6C-3EE1-4B0E-BCE6-1A100C55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0CFD-7389-4950-85BB-EEE8EE6B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DB6-9E25-45D7-A495-3E8194CB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EF3-F137-4D86-8CBB-C28529C6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5BE-97AA-46C8-AF1F-218F049E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631-9473-4DB4-8197-AF06A5FF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076-23BB-4A0B-A662-600A020B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CDA-1935-4736-B6FA-741E86EB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83C-C06C-43B8-81B5-FF38933C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7181-3602-48E9-9A6F-51DF4E4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3DE-DDC0-439D-8B90-33F7595E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7B47-38F4-476C-A354-476EC0997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fortson/ODD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24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7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chael Fort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ugmented Reality/UI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79D-8B26-4A41-A92E-101CBC99F88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InterfaceManag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 Mani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(register)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(unregister)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display status of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 to even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UIManager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367668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DBB1-4156-4EA2-93F8-A8541FA86F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y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placement of sticki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 a changed position or orientation of the mech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IStatus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cates a change in the display of a UI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eventInterfaces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2955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AA3-2F40-470A-9EAB-7897701DAD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Listen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ddEventListener(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Mana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 to listen to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listenerInterface.jpg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5243760" cy="24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0361-DC03-4F1A-873C-EB3D619F70C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 &amp; Ori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Devi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device (GPS) 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Position may simulate mov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device (3-axis Gyroscope) o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iptOrientation may simulate head mov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devices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71840" cy="420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292-8CA1-4F12-808A-0053EB8074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 Javado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vado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F7D-89C9-48E9-9155-11519F1F14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used by 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uctors and Destructor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at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authentication and retrieval of data for other sub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nance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ible for beginning an inspection/repair s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B983-2E40-4ACC-A18B-06D5E88A231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ed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initSequence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39152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4F3-9913-4EE9-88E2-95787DF36A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include a specific user interface, how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ation and termination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ependencies on the other 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504-CC36-4439-A260-7DD74D3F30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System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except for specific user interface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ly formed/recognized UI subsystem is intended to complete this analysis and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6E0A-D374-44AB-A06D-D51E6AA2CA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Object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except for miscellaneous implementation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e handled during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382-18D2-40D1-BED4-AF11D0A168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 from Project 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/ Softwar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 Subsystem Objec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I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Diagram for 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EF99-D5ED-4D4D-A4FB-0F3C2D63109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–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s ASAP (after Thanksgiv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B07-6CEB-46FC-BC8A-F7C35DBA48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– Initi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turns on his PEDD and establishes a network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elects “Get Workorder” from the pulldown men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uthentication window appears, requesting username/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authentication, a workorder is retrieved, the UI is configured for an insp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85D-C93B-4D78-9AB4-0E709C49A5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ization –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alibration panel is added to the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del view is added to the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view is from the front of the plane, approximately 5 feet from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walks to the front of the plane and aligns his own view with th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 clicks “finish calibrati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b’s position/orientation are now reflected in the model vie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5A9-C2FB-4B75-91DB-4AA007175E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SystemConnectivity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152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B36-571C-44F0-A1AA-B843602F75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 concerned with man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M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oning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hardware is managed by other sub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060-BD95-48C8-98DA-D157820534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rInterface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Ev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REventListen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and Orientation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 or end calib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3A7-14BC-45FE-9A26-4116249008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provide two user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Screen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ut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ed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to fit into one of the smaller pan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UserInterface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193680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1C3-235A-4C39-87E5-2976343F01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nterface Mock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uimockup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4248000" cy="296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3384-C1D8-4C56-ACE5-E52534A265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Michael Fortson</cp:lastModifiedBy>
  <cp:lastPrinted>1999-11-04T21:32:38Z</cp:lastPrinted>
  <dcterms:modified xsi:type="dcterms:W3CDTF">1999-11-23T07:09:40Z</dcterms:modified>
  <cp:revision>15</cp:revision>
  <dc:subject/>
  <dc:title>Title</dc:title>
</cp:coreProperties>
</file>