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DD08-4F49-4597-A6E7-12838E96A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AC84-EE53-46E8-997F-735C816E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1C6A-61F3-404C-8771-4B5C5F238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CF58-E6B9-4068-96B2-2D2B661A0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7B69-FBBF-46D2-B1AC-C1405155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92E8-2EDF-4E9A-806A-3FAF321C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8172-9398-48C6-9966-3A9408C9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1113-9886-4F2C-AC2A-B145B5B3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6781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7589-E7EB-4272-9B00-C82FBD90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588F-ABD6-4AED-AC58-032779EF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E234-99CF-49AF-B44F-88B531AD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BEC5-F20A-49FE-99B1-2EA6EB6C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F552-3D63-4D3D-948A-2032812A7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371600" y="1143000"/>
            <a:ext cx="54849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t" descr=""/>
          <p:cNvPicPr/>
          <p:nvPr/>
        </p:nvPicPr>
        <p:blipFill>
          <a:blip r:embed="rId2"/>
          <a:stretch/>
        </p:blipFill>
        <p:spPr>
          <a:xfrm>
            <a:off x="7391520" y="152280"/>
            <a:ext cx="1587240" cy="78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DD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17400" y="354960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66720" y="6550200"/>
            <a:ext cx="8464680" cy="25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3880" y="6489720"/>
            <a:ext cx="846288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80" y="43488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80" y="6732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80" y="91116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80" y="11271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80" y="13460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80" y="15638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80" y="18003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80" y="20178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80" y="223668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80" y="24732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80" y="26906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80" y="290988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80" y="31464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80" y="33638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80" y="36021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80" y="38178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80" y="405612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80" y="42750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80" y="44910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80" y="47102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80" y="49482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80" y="51642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" y="53816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0" y="56181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80" y="58374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80" y="60548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80" y="62913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80" y="65102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80" y="672768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5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25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67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050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192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5720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7176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082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2392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384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7644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1296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494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4316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796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180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322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482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6240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007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149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674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0396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1960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612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7212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866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246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3884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7716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136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278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438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804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964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106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4856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7631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9996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969840" y="336600"/>
            <a:ext cx="7237440" cy="6313320"/>
            <a:chOff x="969840" y="336600"/>
            <a:chExt cx="7237440" cy="6313320"/>
          </a:xfrm>
        </p:grpSpPr>
        <p:sp>
          <p:nvSpPr>
            <p:cNvPr id="119" name=""/>
            <p:cNvSpPr/>
            <p:nvPr/>
          </p:nvSpPr>
          <p:spPr>
            <a:xfrm>
              <a:off x="992160" y="336600"/>
              <a:ext cx="7215120" cy="6313320"/>
            </a:xfrm>
            <a:custGeom>
              <a:avLst/>
              <a:gdLst/>
              <a:ahLst/>
              <a:rect l="l" t="t" r="r" b="b"/>
              <a:pathLst>
                <a:path w="4545" h="3977">
                  <a:moveTo>
                    <a:pt x="0" y="445"/>
                  </a:moveTo>
                  <a:lnTo>
                    <a:pt x="445" y="3976"/>
                  </a:lnTo>
                  <a:lnTo>
                    <a:pt x="4544" y="3437"/>
                  </a:lnTo>
                  <a:lnTo>
                    <a:pt x="4091" y="0"/>
                  </a:lnTo>
                  <a:lnTo>
                    <a:pt x="0" y="4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69840" y="336600"/>
              <a:ext cx="7237440" cy="6313320"/>
            </a:xfrm>
            <a:custGeom>
              <a:avLst/>
              <a:gdLst/>
              <a:ahLst/>
              <a:rect l="l" t="t" r="r" b="b"/>
              <a:pathLst>
                <a:path w="4559" h="3977">
                  <a:moveTo>
                    <a:pt x="0" y="445"/>
                  </a:moveTo>
                  <a:lnTo>
                    <a:pt x="446" y="3976"/>
                  </a:lnTo>
                  <a:lnTo>
                    <a:pt x="4558" y="3437"/>
                  </a:lnTo>
                  <a:lnTo>
                    <a:pt x="4104" y="0"/>
                  </a:lnTo>
                  <a:lnTo>
                    <a:pt x="0" y="4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925560" y="276120"/>
            <a:ext cx="7215120" cy="6332760"/>
            <a:chOff x="925560" y="276120"/>
            <a:chExt cx="7215120" cy="6332760"/>
          </a:xfrm>
        </p:grpSpPr>
        <p:sp>
          <p:nvSpPr>
            <p:cNvPr id="122" name=""/>
            <p:cNvSpPr/>
            <p:nvPr/>
          </p:nvSpPr>
          <p:spPr>
            <a:xfrm>
              <a:off x="925560" y="297000"/>
              <a:ext cx="7215120" cy="6311880"/>
            </a:xfrm>
            <a:custGeom>
              <a:avLst/>
              <a:gdLst/>
              <a:ahLst/>
              <a:rect l="l" t="t" r="r" b="b"/>
              <a:pathLst>
                <a:path w="4545" h="3976">
                  <a:moveTo>
                    <a:pt x="0" y="445"/>
                  </a:moveTo>
                  <a:lnTo>
                    <a:pt x="445" y="3975"/>
                  </a:lnTo>
                  <a:lnTo>
                    <a:pt x="4544" y="3436"/>
                  </a:lnTo>
                  <a:lnTo>
                    <a:pt x="4091" y="0"/>
                  </a:lnTo>
                  <a:lnTo>
                    <a:pt x="0" y="44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25560" y="276120"/>
              <a:ext cx="7215120" cy="6332760"/>
            </a:xfrm>
            <a:custGeom>
              <a:avLst/>
              <a:gdLst/>
              <a:ahLst/>
              <a:rect l="l" t="t" r="r" b="b"/>
              <a:pathLst>
                <a:path w="4545" h="3989">
                  <a:moveTo>
                    <a:pt x="0" y="447"/>
                  </a:moveTo>
                  <a:lnTo>
                    <a:pt x="445" y="3988"/>
                  </a:lnTo>
                  <a:lnTo>
                    <a:pt x="4544" y="3447"/>
                  </a:lnTo>
                  <a:lnTo>
                    <a:pt x="4091" y="0"/>
                  </a:lnTo>
                  <a:lnTo>
                    <a:pt x="0" y="4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4581000" y="485604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02360" y="915840"/>
            <a:ext cx="897120" cy="561960"/>
          </a:xfrm>
          <a:prstGeom prst="rect">
            <a:avLst/>
          </a:prstGeom>
          <a:solidFill>
            <a:srgbClr val="00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939000" y="878040"/>
            <a:ext cx="912600" cy="56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938280" y="985680"/>
            <a:ext cx="890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-4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30200" y="2498760"/>
            <a:ext cx="62643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heng Guang Zh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Modeling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TARS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23 November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219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Object Design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ces We Ne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Workflo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ay to store and retrieve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ay to obtain a list of work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ay to retrieve any work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s and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shed with object design and is ready to imp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ublic API's finalized by Dec.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, Nov. 22 - Dec.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t Tests, Dec.1 - Dec. 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ion Testing, Dec. 4 - Dec.8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/Software al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I We Prov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e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quence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us and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STARS.Modeling.Package" descr=""/>
          <p:cNvPicPr/>
          <p:nvPr/>
        </p:nvPicPr>
        <p:blipFill>
          <a:blip r:embed="rId1"/>
          <a:stretch/>
        </p:blipFill>
        <p:spPr>
          <a:xfrm>
            <a:off x="34920" y="1208160"/>
            <a:ext cx="910908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rdware/Software Allo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: n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: Java3D package, CAD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I We Prov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2209680"/>
          <a:ext cx="91440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e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pector starts up the system, authentica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mself, and gets a work ord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.ModelControl.initialize(IETM ietm, Panel 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.ModelThread modelthread =  new ModelThread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mentedReality.EventManager.addVectorEventListener(VectorListener v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thread.star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enario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then goes to the plane and inspect as asked in the work order. If he find any defects, he would place a stick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.Location loc = Modeling.ModelControl.convertTo3D(int x, int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.ModelControl.addSticky(Location loc, String ID, int severit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he finish with the work order, 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s with server and exit the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enario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air is pretty much the same except it may want to highlight a specific stick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.ModelControl.highlightSticky(String I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he may want to remove a sticky after he is finished with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ing.ModelControl.removeSticky(String I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quence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Sequence.Sequence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3T07:38:14Z</dcterms:created>
  <dc:creator>Cheng Zhao</dc:creator>
  <dc:description/>
  <dc:language>en-US</dc:language>
  <cp:lastModifiedBy>Cheng Zhao</cp:lastModifiedBy>
  <dcterms:modified xsi:type="dcterms:W3CDTF">1999-11-23T11:52:23Z</dcterms:modified>
  <cp:revision>4</cp:revision>
  <dc:subject/>
  <dc:title>ODD Presentation</dc:title>
</cp:coreProperties>
</file>