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0BD-7162-418D-8C12-BD88AF68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F8C-628A-4D0E-AE6D-29E9C836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568-F1DE-49F3-93D2-B70962E0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124-9E08-4FEF-96C3-3BF05CE4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63F-C7B5-40BA-9141-7E223C5D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7FF-D40B-4919-95F4-1E1BC621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F96-7895-4871-A614-2D231CDA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EF8-FEE4-4D07-9436-3D11C318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B8A-FD17-4099-AE30-F0368160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AA2-9530-4E95-88DD-E66D658E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B26-349A-404C-9E64-C1105295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D80-FC65-4CBE-BADC-27E79B6A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B3DC-326E-48A7-8BED-ED6276F11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71600" y="1143000"/>
            <a:ext cx="5484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t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587240" cy="78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ontrib.andrew.cmu.edu/~parkison/SE/javadoc/index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217400" y="3549600"/>
            <a:ext cx="251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6720" y="6550200"/>
            <a:ext cx="8464680" cy="2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3880" y="6489720"/>
            <a:ext cx="846288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80" y="4348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80" y="673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0" y="91116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80" y="1127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80" y="13460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80" y="1563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80" y="1800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80" y="20178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" y="2236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80" y="2473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80" y="26906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80" y="290988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80" y="3146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80" y="33638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80" y="3602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80" y="38178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80" y="405612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80" y="4275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80" y="44910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80" y="47102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80" y="494820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80" y="51642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80" y="53816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80" y="56181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" y="583740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0" y="605484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80" y="6291360"/>
            <a:ext cx="909612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0" y="651024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80" y="6727680"/>
            <a:ext cx="9096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6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25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6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050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92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572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717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082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239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384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764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129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494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431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796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180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32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482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24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149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674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039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1960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56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7212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86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24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3884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7716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136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2788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4388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80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964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1060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48560" y="6480"/>
            <a:ext cx="180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76312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99640" y="6480"/>
            <a:ext cx="1440" cy="683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69840" y="336600"/>
            <a:ext cx="7237440" cy="6313320"/>
            <a:chOff x="969840" y="336600"/>
            <a:chExt cx="7237440" cy="6313320"/>
          </a:xfrm>
        </p:grpSpPr>
        <p:sp>
          <p:nvSpPr>
            <p:cNvPr id="117" name=""/>
            <p:cNvSpPr/>
            <p:nvPr/>
          </p:nvSpPr>
          <p:spPr>
            <a:xfrm>
              <a:off x="992160" y="336600"/>
              <a:ext cx="7215120" cy="6313320"/>
            </a:xfrm>
            <a:custGeom>
              <a:avLst/>
              <a:gdLst/>
              <a:ahLst/>
              <a:rect l="l" t="t" r="r" b="b"/>
              <a:pathLst>
                <a:path w="4545" h="3977">
                  <a:moveTo>
                    <a:pt x="0" y="445"/>
                  </a:moveTo>
                  <a:lnTo>
                    <a:pt x="445" y="3976"/>
                  </a:lnTo>
                  <a:lnTo>
                    <a:pt x="4544" y="3437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336600"/>
              <a:ext cx="7237440" cy="6313320"/>
            </a:xfrm>
            <a:custGeom>
              <a:avLst/>
              <a:gdLst/>
              <a:ahLst/>
              <a:rect l="l" t="t" r="r" b="b"/>
              <a:pathLst>
                <a:path w="4559" h="3977">
                  <a:moveTo>
                    <a:pt x="0" y="445"/>
                  </a:moveTo>
                  <a:lnTo>
                    <a:pt x="446" y="3976"/>
                  </a:lnTo>
                  <a:lnTo>
                    <a:pt x="4558" y="3437"/>
                  </a:lnTo>
                  <a:lnTo>
                    <a:pt x="4104" y="0"/>
                  </a:lnTo>
                  <a:lnTo>
                    <a:pt x="0" y="4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925560" y="276120"/>
            <a:ext cx="7215120" cy="6332760"/>
            <a:chOff x="925560" y="276120"/>
            <a:chExt cx="7215120" cy="6332760"/>
          </a:xfrm>
        </p:grpSpPr>
        <p:sp>
          <p:nvSpPr>
            <p:cNvPr id="120" name=""/>
            <p:cNvSpPr/>
            <p:nvPr/>
          </p:nvSpPr>
          <p:spPr>
            <a:xfrm>
              <a:off x="925560" y="297000"/>
              <a:ext cx="7215120" cy="6311880"/>
            </a:xfrm>
            <a:custGeom>
              <a:avLst/>
              <a:gdLst/>
              <a:ahLst/>
              <a:rect l="l" t="t" r="r" b="b"/>
              <a:pathLst>
                <a:path w="4545" h="3976">
                  <a:moveTo>
                    <a:pt x="0" y="445"/>
                  </a:moveTo>
                  <a:lnTo>
                    <a:pt x="445" y="3975"/>
                  </a:lnTo>
                  <a:lnTo>
                    <a:pt x="4544" y="3436"/>
                  </a:lnTo>
                  <a:lnTo>
                    <a:pt x="4091" y="0"/>
                  </a:lnTo>
                  <a:lnTo>
                    <a:pt x="0" y="44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25560" y="276120"/>
              <a:ext cx="7215120" cy="6332760"/>
            </a:xfrm>
            <a:custGeom>
              <a:avLst/>
              <a:gdLst/>
              <a:ahLst/>
              <a:rect l="l" t="t" r="r" b="b"/>
              <a:pathLst>
                <a:path w="4545" h="3989">
                  <a:moveTo>
                    <a:pt x="0" y="447"/>
                  </a:moveTo>
                  <a:lnTo>
                    <a:pt x="445" y="3988"/>
                  </a:lnTo>
                  <a:lnTo>
                    <a:pt x="4544" y="3447"/>
                  </a:lnTo>
                  <a:lnTo>
                    <a:pt x="4091" y="0"/>
                  </a:lnTo>
                  <a:lnTo>
                    <a:pt x="0" y="44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581000" y="48560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02360" y="915840"/>
            <a:ext cx="897120" cy="561960"/>
          </a:xfrm>
          <a:prstGeom prst="rect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9000" y="878040"/>
            <a:ext cx="912600" cy="56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38280" y="985680"/>
            <a:ext cx="890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-4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30200" y="2498760"/>
            <a:ext cx="62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ian Park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orkflow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TARS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23 November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Object Design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6D49-97E6-4723-B6BD-7DB9657A138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: Java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: JavaRMI.  Also, LotusNotes must be running for authentication and notification.  The database subsystem also needs a database backend to store all of the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7C8-3813-4BD4-93EA-A4AEF60BF2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About the Data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usNotes has a 254 character limit on field sizes when using JDB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usNotes only supports JDBC 1.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flow is currently looking at other DBMS’s to use as the back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53E-CCBE-4204-99E3-C948B28555F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base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elds need to be specified to the Workflow team ahead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flow will be adding additional fields, mostly for internal manag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fields will be accessible by other subsyst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E02-293E-4D18-8583-0DD5F693C7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ed Fiel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_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_wr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alized_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field names cannot be used by other subsyste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801-4BDD-4970-9999-F030A49105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of Sub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on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 to front end is defined and ready to 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 end server access to database is proceeding in earn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and Notification subsystem are somewhat lacking in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MI is in t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3D81-B77F-4F77-A1EA-EBC70599FF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209680"/>
            <a:ext cx="822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2362320"/>
            <a:ext cx="5638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80" y="1828800"/>
            <a:ext cx="95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v 23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40840" y="18288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 5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895480"/>
            <a:ext cx="2361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5200" y="182880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 1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8680" y="3352680"/>
            <a:ext cx="3124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155440" y="175248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 9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7680" y="4114800"/>
            <a:ext cx="816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have not decided on the exact order of implementation for each subsystem.  We’ll take whatever we can 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2EC-64C5-491B-9FA1-205214DAA9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MI the best way to do the network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atabase will replace LotusNo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deal with dead network conne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re we going to implement and test all of this in a timely mann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8FF-6EA3-46A9-A83B-72B4D995228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mitDocument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k, an IETM author in Montana, finishes his first draft and needs to submit it to the Authoring Database for review.  (submitDocument(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BClient notices that this is the first time Jack has accessed the database, and asks him to login. (authenticateUser(), which is not a public meth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AB2-5DF8-4688-BA54-141F23FB8A3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mitDocument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successful authentication, the DBClient initiates a call to the DBServer to carry out the submit request. (API undeci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on successful completion of the task, the ID of the newly submitted document is retu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ck realizes this is the last thing he needs to do today, and logs out.  (logout(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EBF-8280-44A5-8B8B-91D36B7DCF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1874880"/>
            <a:ext cx="3200400" cy="160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895480"/>
            <a:ext cx="1768320" cy="4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2057400"/>
            <a:ext cx="176832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70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26258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1905120"/>
            <a:ext cx="464832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057400"/>
            <a:ext cx="175248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24861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286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0750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28640" y="2016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43560" y="1971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968560"/>
            <a:ext cx="1752480" cy="41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86400" y="2478240"/>
            <a:ext cx="0" cy="49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7800" y="268776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24764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4267080"/>
            <a:ext cx="914400" cy="1189080"/>
          </a:xfrm>
          <a:prstGeom prst="flowChartMagneticDisk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13360" y="475308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9240" y="33876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9240" y="4019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2920" y="2057400"/>
            <a:ext cx="175248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62920" y="3387600"/>
            <a:ext cx="175248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tus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4788000"/>
            <a:ext cx="175248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5029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001000" y="3808440"/>
            <a:ext cx="0" cy="9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001000" y="2478240"/>
            <a:ext cx="0" cy="90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31082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620120" y="2478240"/>
            <a:ext cx="0" cy="63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24764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282744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01000" y="24764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01000" y="31082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380844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01000" y="451008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471816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4718160"/>
            <a:ext cx="24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87600"/>
            <a:ext cx="0" cy="91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8560" y="37339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74360" y="46483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124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680" y="29145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20760" y="29145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560" y="152388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1523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S D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Model (Simplifi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CEF-C7A2-4105-8A36-3408B816FF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 on the Object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subsystems should only interact with the DBCl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BServer creates threads for each connection from the Network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result, the authentication and notification subsystems will be thread-sa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35B-C49F-44F0-8E87-FF71D75CA3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mous Doc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n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id addSubscriber(String user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getDatatyp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getAuthorizedReaders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getAuthorizedWriters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getSubscribers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getSearchableData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D92-AD11-4D03-BB75-0ED68080A7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submitDocument(Document 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retrieveDocument(int docID, String datatype, boolean forRead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updateDocument(int docID, Document da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listDocuments(Collection criteria, Collection desiredFiel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3611-3B58-4D6E-88E5-2D8FC06BD3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35EC-34E2-4AE4-9ADD-F326D0E73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743200" y="624852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I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id addSubscriber(String username, int DocID, String datatyp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getUsername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id logou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doc: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contrib.andrew.cmu.edu/~parkison/SE/javadoc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: PEDD, desktop – we’re not the bottleneck in hardware nee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: Dedicated STARS DB Server with 100-300 GB of disk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/Server: Any network connection, but the faster, the b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icky Technology for Augmented Reality System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F03-366D-4EF6-9CFB-CCAD9D40B5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3 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9:50:21Z</dcterms:created>
  <dc:creator>Eric Stein</dc:creator>
  <dc:description/>
  <dc:language>en-US</dc:language>
  <cp:lastModifiedBy>parkison</cp:lastModifiedBy>
  <cp:lastPrinted>1999-11-04T21:32:38Z</cp:lastPrinted>
  <dcterms:modified xsi:type="dcterms:W3CDTF">1999-11-23T19:53:56Z</dcterms:modified>
  <cp:revision>26</cp:revision>
  <dc:subject/>
  <dc:title>Title</dc:title>
</cp:coreProperties>
</file>